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6B5E-6591-4731-A344-6B4AADA6C5AA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jor parts of TMJ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tology is in the parts finding, relationships, landmarks and frames of reference because it all relates to objects in reality are significant.  This is a different to measurement.  Divide arbitrarily-do A, b,c,d equiportioned-- this is not arbitrary it corresponds to what existsin real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ona fide, fiat and cavit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nectedness grap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 level of abstraction:  abstract out entiies that we know are there. choose coarse--major big parts fi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econd level of abstraction:  abstracting out size.  What we have is connectednes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alue: everyone has different size but must have same connectedness graph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graph is a data structure in computer model.  Arcs and nodes.  Attach measurerment.  Degrees of attachment; lengths of attachmen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able and moving gives you a coordinate system where frame is fixed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: identify landmarks which are independent of individuals; they canonic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rder the landmarks; identify on the landmark the order of hitting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the order of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is is our frame of reference and then we relate other objects to these landmarks and the places between the landmark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landmarks are the fiat boundaries and the names are of the fiat parts between boundar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parts inherit the order of the landmarks--so if you know where you are you can predict where you are and are go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 three axis coordinate system.  No numbers you adjacent to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ith these three frames of reference you can map various configurations with variables such pain or defined pathologie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very human has a unique location in this frame of reference (this is an abstract space) .   the framed of reference is no human on earth is not represented on this th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eople will cluster  can #;s in clusters and quantif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425680"/>
            <a:ext cx="817884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 REASONING WITH IMAG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SE OF IMAGES IN CLINICAL RE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4871520"/>
            <a:ext cx="8178840" cy="109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omas Bittn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uis Goldbe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iversity at Buffal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9480" y="306000"/>
            <a:ext cx="8178840" cy="58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CAPTURE OF THE DIS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1640" y="2035080"/>
            <a:ext cx="3538440" cy="390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53080" y="2224080"/>
            <a:ext cx="4267080" cy="34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89680" y="633888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1960" y="1985760"/>
            <a:ext cx="8178840" cy="66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5120" y="3357360"/>
            <a:ext cx="8178840" cy="206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 the relationships among the condyle, the articular disc and the temporal bone in an automatic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0640" y="2270160"/>
            <a:ext cx="8178840" cy="53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practical point of vie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1880" y="4352760"/>
            <a:ext cx="8178480" cy="107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ntology must be immediately useful to a specific research enterpri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600" y="980640"/>
            <a:ext cx="8178840" cy="47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7360" y="1825560"/>
            <a:ext cx="8178840" cy="4246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Identify the major par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connectedness and adjacency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mong the various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qualitative order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using landmarks as frames of re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relative size rel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922320"/>
            <a:ext cx="8178840" cy="75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ill Sans"/>
              </a:rPr>
              <a:t>Major parts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7520" y="2752560"/>
            <a:ext cx="8178480" cy="254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MJ is a real, three dimensional struc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oose the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arsest level of granular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ufficient to distinguish the major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proper parts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oss anatomical granularity in this c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360" y="1947960"/>
            <a:ext cx="817884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jor parts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0680" y="3105000"/>
            <a:ext cx="8178840" cy="268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igid pa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n-rigid par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69920" y="2187720"/>
            <a:ext cx="59436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83200" y="470232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5200" y="671400"/>
            <a:ext cx="817848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2071800" y="2384280"/>
            <a:ext cx="568620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43000" y="335268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390840" y="377208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772080" y="3271680"/>
            <a:ext cx="123012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4611600" y="324468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084480" y="6670800"/>
            <a:ext cx="582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Rigid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223560" y="2808360"/>
            <a:ext cx="33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72080" y="4092120"/>
            <a:ext cx="3695040" cy="1818360"/>
            <a:chOff x="1072080" y="4092120"/>
            <a:chExt cx="3695040" cy="1818360"/>
          </a:xfrm>
        </p:grpSpPr>
        <p:sp>
          <p:nvSpPr>
            <p:cNvPr id="92" name=""/>
            <p:cNvSpPr/>
            <p:nvPr/>
          </p:nvSpPr>
          <p:spPr>
            <a:xfrm>
              <a:off x="1072080" y="5329080"/>
              <a:ext cx="11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fixe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914480" y="4092120"/>
              <a:ext cx="2852640" cy="13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85120" y="5432040"/>
            <a:ext cx="2318760" cy="1708920"/>
            <a:chOff x="3885120" y="5432040"/>
            <a:chExt cx="2318760" cy="1708920"/>
          </a:xfrm>
        </p:grpSpPr>
        <p:sp>
          <p:nvSpPr>
            <p:cNvPr id="95" name=""/>
            <p:cNvSpPr/>
            <p:nvPr/>
          </p:nvSpPr>
          <p:spPr>
            <a:xfrm>
              <a:off x="3885120" y="6559560"/>
              <a:ext cx="182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ovab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57760" y="5432040"/>
              <a:ext cx="144612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457200"/>
            <a:ext cx="885348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on-rigid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71360" y="2867040"/>
            <a:ext cx="373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ut the topology does not change: the connected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main connec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4600" y="2881440"/>
            <a:ext cx="3273480" cy="1933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449568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69960" y="2857680"/>
            <a:ext cx="305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illed with liquid: synovial fluid in the case of the TMJ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9040" y="9982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960" y="2614680"/>
            <a:ext cx="8178480" cy="42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studies have significantly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 as represented in images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lem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3440" y="1792080"/>
            <a:ext cx="8178840" cy="1082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e have identified three kinds of entities (parts) in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4168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3359880" y="448956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non-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7463160" y="446256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av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96760" y="3303720"/>
            <a:ext cx="305748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863960" y="3294000"/>
            <a:ext cx="0" cy="11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854600" y="3303720"/>
            <a:ext cx="3341520" cy="12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3267000"/>
            <a:ext cx="8178840" cy="1209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and adjacency relations among the parts of the joi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onnectedness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4214880"/>
            <a:ext cx="1092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960" y="2303640"/>
            <a:ext cx="3908160" cy="3125160"/>
            <a:chOff x="723960" y="2303640"/>
            <a:chExt cx="3908160" cy="3125160"/>
          </a:xfrm>
        </p:grpSpPr>
        <p:sp>
          <p:nvSpPr>
            <p:cNvPr id="122" name=""/>
            <p:cNvSpPr/>
            <p:nvPr/>
          </p:nvSpPr>
          <p:spPr>
            <a:xfrm>
              <a:off x="743040" y="2303640"/>
              <a:ext cx="3882240" cy="275508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960" y="3101760"/>
              <a:ext cx="1206360" cy="232704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44120" y="344736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4040" y="3035160"/>
              <a:ext cx="839880" cy="82296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77520" y="298944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6560" y="2997360"/>
            <a:ext cx="3868200" cy="3448080"/>
            <a:chOff x="736560" y="2997360"/>
            <a:chExt cx="3868200" cy="3448080"/>
          </a:xfrm>
        </p:grpSpPr>
        <p:grpSp>
          <p:nvGrpSpPr>
            <p:cNvPr id="128" name=""/>
            <p:cNvGrpSpPr/>
            <p:nvPr/>
          </p:nvGrpSpPr>
          <p:grpSpPr>
            <a:xfrm>
              <a:off x="736560" y="2997360"/>
              <a:ext cx="3868200" cy="2431440"/>
              <a:chOff x="736560" y="2997360"/>
              <a:chExt cx="3868200" cy="24314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6560" y="319860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40520" y="404424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1910160" y="307836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77160" y="406764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604240" y="380988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38200" y="299736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829800" y="586404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846080" y="529272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07080" y="3057480"/>
            <a:ext cx="5417640" cy="2007000"/>
            <a:chOff x="4807080" y="3057480"/>
            <a:chExt cx="5417640" cy="2007000"/>
          </a:xfrm>
        </p:grpSpPr>
        <p:sp>
          <p:nvSpPr>
            <p:cNvPr id="138" name=""/>
            <p:cNvSpPr/>
            <p:nvPr/>
          </p:nvSpPr>
          <p:spPr>
            <a:xfrm>
              <a:off x="4807080" y="3554280"/>
              <a:ext cx="1136520" cy="97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116760" y="3057480"/>
              <a:ext cx="4107960" cy="2007000"/>
              <a:chOff x="6116760" y="3057480"/>
              <a:chExt cx="4107960" cy="2007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116760" y="3057480"/>
                <a:ext cx="2377440" cy="1838160"/>
                <a:chOff x="6116760" y="3057480"/>
                <a:chExt cx="2377440" cy="1838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16760" y="4041720"/>
                  <a:ext cx="14580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35680" y="4732200"/>
                  <a:ext cx="14544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05320" y="3057480"/>
                  <a:ext cx="14580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46800" y="3649680"/>
                  <a:ext cx="14544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348400" y="3832200"/>
                  <a:ext cx="14580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81560" y="3112920"/>
                  <a:ext cx="94104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6252840" y="3777840"/>
                  <a:ext cx="98568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5560" y="3719520"/>
                  <a:ext cx="95688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52840" y="4197240"/>
                  <a:ext cx="59508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995880" y="3963600"/>
                  <a:ext cx="140616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259400" y="3060720"/>
                  <a:ext cx="119988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8253360" y="4360680"/>
                <a:ext cx="1971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onnectedness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graph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360" y="560520"/>
            <a:ext cx="8178840" cy="57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osed and opened posi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46680" y="2063880"/>
            <a:ext cx="4597200" cy="312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545000" cy="313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70080" y="5686560"/>
            <a:ext cx="23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clos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5670720" y="5664240"/>
            <a:ext cx="26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open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6692760"/>
            <a:ext cx="517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423720"/>
            <a:ext cx="8707680" cy="8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remains invariant in the opened and closed posi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3297240" y="3278160"/>
            <a:ext cx="1092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6600" y="1366920"/>
            <a:ext cx="3908160" cy="3125520"/>
            <a:chOff x="606600" y="1366920"/>
            <a:chExt cx="3908160" cy="3125520"/>
          </a:xfrm>
        </p:grpSpPr>
        <p:sp>
          <p:nvSpPr>
            <p:cNvPr id="162" name=""/>
            <p:cNvSpPr/>
            <p:nvPr/>
          </p:nvSpPr>
          <p:spPr>
            <a:xfrm>
              <a:off x="625680" y="1366920"/>
              <a:ext cx="3881880" cy="275544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6600" y="2165040"/>
              <a:ext cx="1206000" cy="232740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760" y="251064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6680" y="2098440"/>
              <a:ext cx="839880" cy="82332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0160" y="205272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3760" y="1531800"/>
            <a:ext cx="3703680" cy="2684160"/>
            <a:chOff x="5873760" y="1531800"/>
            <a:chExt cx="3703680" cy="2684160"/>
          </a:xfrm>
        </p:grpSpPr>
        <p:grpSp>
          <p:nvGrpSpPr>
            <p:cNvPr id="168" name=""/>
            <p:cNvGrpSpPr/>
            <p:nvPr/>
          </p:nvGrpSpPr>
          <p:grpSpPr>
            <a:xfrm>
              <a:off x="5873760" y="1531800"/>
              <a:ext cx="3703680" cy="2684160"/>
              <a:chOff x="5873760" y="1531800"/>
              <a:chExt cx="3703680" cy="26841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873760" y="1531800"/>
                <a:ext cx="3703680" cy="2684160"/>
                <a:chOff x="5873760" y="1531800"/>
                <a:chExt cx="3703680" cy="2684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3760" y="1531800"/>
                  <a:ext cx="370368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80240" y="2413800"/>
                  <a:ext cx="172368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58840" y="2737080"/>
                  <a:ext cx="97524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005320" y="1953000"/>
                  <a:ext cx="156492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2160" y="2421360"/>
                  <a:ext cx="96948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880240" y="2390400"/>
                <a:ext cx="75384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37240" y="376272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69000" y="242856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510400" y="256464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08840" y="1945800"/>
                <a:ext cx="76140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992000" y="3303360"/>
              <a:ext cx="44208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9200" y="2060640"/>
            <a:ext cx="3868200" cy="3448080"/>
            <a:chOff x="619200" y="2060640"/>
            <a:chExt cx="3868200" cy="3448080"/>
          </a:xfrm>
        </p:grpSpPr>
        <p:grpSp>
          <p:nvGrpSpPr>
            <p:cNvPr id="182" name=""/>
            <p:cNvGrpSpPr/>
            <p:nvPr/>
          </p:nvGrpSpPr>
          <p:grpSpPr>
            <a:xfrm>
              <a:off x="619200" y="2060640"/>
              <a:ext cx="3868200" cy="2431440"/>
              <a:chOff x="619200" y="2060640"/>
              <a:chExt cx="3868200" cy="243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619200" y="226188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23160" y="310752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792800" y="214164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59800" y="313092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486880" y="287316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840" y="206064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12440" y="492732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728720" y="435600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60920" y="4024440"/>
            <a:ext cx="4790160" cy="3327840"/>
            <a:chOff x="3760920" y="4024440"/>
            <a:chExt cx="4790160" cy="3327840"/>
          </a:xfrm>
        </p:grpSpPr>
        <p:grpSp>
          <p:nvGrpSpPr>
            <p:cNvPr id="192" name=""/>
            <p:cNvGrpSpPr/>
            <p:nvPr/>
          </p:nvGrpSpPr>
          <p:grpSpPr>
            <a:xfrm>
              <a:off x="3760920" y="4024440"/>
              <a:ext cx="3932280" cy="3159000"/>
              <a:chOff x="3760920" y="4024440"/>
              <a:chExt cx="3932280" cy="3159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387680" y="5345280"/>
                <a:ext cx="2378160" cy="1838160"/>
                <a:chOff x="4387680" y="5345280"/>
                <a:chExt cx="2378160" cy="1838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387680" y="6329520"/>
                  <a:ext cx="14616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06960" y="7020000"/>
                  <a:ext cx="14580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76600" y="5345280"/>
                  <a:ext cx="14616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18080" y="5937480"/>
                  <a:ext cx="14580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619680" y="6120000"/>
                  <a:ext cx="14616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52840" y="5400720"/>
                  <a:ext cx="94140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524120" y="6065640"/>
                  <a:ext cx="98604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76840" y="6007320"/>
                  <a:ext cx="95724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24120" y="6485040"/>
                  <a:ext cx="59544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267160" y="6251400"/>
                  <a:ext cx="140652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30680" y="5348520"/>
                  <a:ext cx="120024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760920" y="4024440"/>
                <a:ext cx="1125360" cy="11714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492960" y="4314960"/>
                <a:ext cx="1200240" cy="90792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40120" y="664848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2000" y="942840"/>
            <a:ext cx="8707320" cy="219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Every TMJ can be represented by this connectedness graph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54400" y="3610080"/>
            <a:ext cx="4569480" cy="2247840"/>
            <a:chOff x="3254400" y="3610080"/>
            <a:chExt cx="4569480" cy="2247840"/>
          </a:xfrm>
        </p:grpSpPr>
        <p:grpSp>
          <p:nvGrpSpPr>
            <p:cNvPr id="210" name=""/>
            <p:cNvGrpSpPr/>
            <p:nvPr/>
          </p:nvGrpSpPr>
          <p:grpSpPr>
            <a:xfrm>
              <a:off x="3254400" y="3610080"/>
              <a:ext cx="2803680" cy="2177280"/>
              <a:chOff x="3254400" y="3610080"/>
              <a:chExt cx="2803680" cy="2177280"/>
            </a:xfrm>
          </p:grpSpPr>
          <p:sp>
            <p:nvSpPr>
              <p:cNvPr id="211" name=""/>
              <p:cNvSpPr/>
              <p:nvPr/>
            </p:nvSpPr>
            <p:spPr>
              <a:xfrm>
                <a:off x="3254400" y="4776120"/>
                <a:ext cx="172080" cy="19332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2200" y="5594040"/>
                <a:ext cx="171720" cy="19332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0080" y="3610080"/>
                <a:ext cx="172080" cy="1933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87120" y="4311720"/>
                <a:ext cx="171720" cy="19332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86000" y="4527720"/>
                <a:ext cx="172080" cy="19332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31080" y="3675600"/>
                <a:ext cx="1109880" cy="118152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3414960" y="4464000"/>
                <a:ext cx="1162440" cy="38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74320" y="4394160"/>
                <a:ext cx="112860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4960" y="4960440"/>
                <a:ext cx="702000" cy="63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291200" y="4683960"/>
                <a:ext cx="1658160" cy="99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1880" y="3613680"/>
                <a:ext cx="1414800" cy="91944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812920" y="515412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11200" y="583920"/>
            <a:ext cx="816624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adjacency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73280" y="2089080"/>
            <a:ext cx="3699000" cy="2684160"/>
            <a:chOff x="1673280" y="2089080"/>
            <a:chExt cx="3699000" cy="2684160"/>
          </a:xfrm>
        </p:grpSpPr>
        <p:grpSp>
          <p:nvGrpSpPr>
            <p:cNvPr id="225" name=""/>
            <p:cNvGrpSpPr/>
            <p:nvPr/>
          </p:nvGrpSpPr>
          <p:grpSpPr>
            <a:xfrm>
              <a:off x="1673280" y="2089080"/>
              <a:ext cx="3699000" cy="2684160"/>
              <a:chOff x="1673280" y="2089080"/>
              <a:chExt cx="3699000" cy="26841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673280" y="2089080"/>
                <a:ext cx="3699000" cy="2684160"/>
                <a:chOff x="1673280" y="2089080"/>
                <a:chExt cx="3699000" cy="26841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3280" y="2089080"/>
                  <a:ext cx="369900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79760" y="2971080"/>
                  <a:ext cx="172116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256200" y="3294360"/>
                  <a:ext cx="97380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02320" y="2510280"/>
                  <a:ext cx="156276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9880" y="2978640"/>
                  <a:ext cx="96840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679760" y="2947680"/>
                <a:ext cx="75276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234960" y="432000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366360" y="298584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306320" y="312192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04760" y="2503080"/>
                <a:ext cx="76032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88640" y="3860640"/>
              <a:ext cx="44136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210200" y="2000160"/>
            <a:ext cx="5256720" cy="1373760"/>
            <a:chOff x="4210200" y="2000160"/>
            <a:chExt cx="5256720" cy="1373760"/>
          </a:xfrm>
        </p:grpSpPr>
        <p:sp>
          <p:nvSpPr>
            <p:cNvPr id="239" name=""/>
            <p:cNvSpPr/>
            <p:nvPr/>
          </p:nvSpPr>
          <p:spPr>
            <a:xfrm flipV="1">
              <a:off x="4273560" y="2579400"/>
              <a:ext cx="19029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210200" y="2609640"/>
              <a:ext cx="1956240" cy="69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07840" y="2000160"/>
              <a:ext cx="325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No connectedne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Only (temporary)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25920" y="5124600"/>
            <a:ext cx="2798280" cy="2177280"/>
            <a:chOff x="3625920" y="5124600"/>
            <a:chExt cx="2798280" cy="2177280"/>
          </a:xfrm>
        </p:grpSpPr>
        <p:sp>
          <p:nvSpPr>
            <p:cNvPr id="243" name=""/>
            <p:cNvSpPr/>
            <p:nvPr/>
          </p:nvSpPr>
          <p:spPr>
            <a:xfrm>
              <a:off x="3625920" y="6290640"/>
              <a:ext cx="17172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72280" y="7108560"/>
              <a:ext cx="17136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89440" y="5124600"/>
              <a:ext cx="17172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6120" y="5826240"/>
              <a:ext cx="17136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2480" y="6042240"/>
              <a:ext cx="17172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2240" y="5190120"/>
              <a:ext cx="11077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786480" y="5978520"/>
              <a:ext cx="116028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2960" y="5908680"/>
              <a:ext cx="11264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6480" y="6474960"/>
              <a:ext cx="70056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660560" y="6198480"/>
              <a:ext cx="165492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70880" y="5128200"/>
              <a:ext cx="141228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73280" y="6316560"/>
            <a:ext cx="201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onnected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0560" y="4732200"/>
            <a:ext cx="5834160" cy="2340000"/>
            <a:chOff x="4570560" y="4732200"/>
            <a:chExt cx="5834160" cy="2340000"/>
          </a:xfrm>
        </p:grpSpPr>
        <p:sp>
          <p:nvSpPr>
            <p:cNvPr id="256" name=""/>
            <p:cNvSpPr/>
            <p:nvPr/>
          </p:nvSpPr>
          <p:spPr>
            <a:xfrm flipV="1">
              <a:off x="4570560" y="6046920"/>
              <a:ext cx="46944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909320" y="527184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9240" y="473220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814280" y="5237280"/>
              <a:ext cx="227304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034960" y="5281560"/>
              <a:ext cx="198936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1880" y="574200"/>
            <a:ext cx="817848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82680" y="2360520"/>
            <a:ext cx="2803320" cy="2177280"/>
            <a:chOff x="1282680" y="2360520"/>
            <a:chExt cx="2803320" cy="2177280"/>
          </a:xfrm>
        </p:grpSpPr>
        <p:sp>
          <p:nvSpPr>
            <p:cNvPr id="263" name=""/>
            <p:cNvSpPr/>
            <p:nvPr/>
          </p:nvSpPr>
          <p:spPr>
            <a:xfrm>
              <a:off x="1282680" y="3526560"/>
              <a:ext cx="17208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0480" y="4344480"/>
              <a:ext cx="17172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48360" y="2360520"/>
              <a:ext cx="17208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5040" y="3062160"/>
              <a:ext cx="17172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13920" y="3278160"/>
              <a:ext cx="17208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59360" y="2426040"/>
              <a:ext cx="11095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443240" y="3214440"/>
              <a:ext cx="116244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02240" y="3144600"/>
              <a:ext cx="11282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3240" y="3710880"/>
              <a:ext cx="70164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19480" y="3434400"/>
              <a:ext cx="165780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30160" y="2364120"/>
              <a:ext cx="141480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054760" y="3162240"/>
            <a:ext cx="418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fossa (yellow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condyle (pink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27320" y="1968480"/>
            <a:ext cx="5837400" cy="2340000"/>
            <a:chOff x="2227320" y="1968480"/>
            <a:chExt cx="5837400" cy="2340000"/>
          </a:xfrm>
        </p:grpSpPr>
        <p:sp>
          <p:nvSpPr>
            <p:cNvPr id="276" name=""/>
            <p:cNvSpPr/>
            <p:nvPr/>
          </p:nvSpPr>
          <p:spPr>
            <a:xfrm flipV="1">
              <a:off x="2227320" y="3283200"/>
              <a:ext cx="46980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566440" y="250812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79240" y="196848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471400" y="2473560"/>
              <a:ext cx="227628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692080" y="2517840"/>
              <a:ext cx="199224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84400" y="4776840"/>
            <a:ext cx="6680520" cy="2311920"/>
            <a:chOff x="3884400" y="4776840"/>
            <a:chExt cx="6680520" cy="2311920"/>
          </a:xfrm>
        </p:grpSpPr>
        <p:sp>
          <p:nvSpPr>
            <p:cNvPr id="282" name=""/>
            <p:cNvSpPr/>
            <p:nvPr/>
          </p:nvSpPr>
          <p:spPr>
            <a:xfrm>
              <a:off x="3884400" y="5532480"/>
              <a:ext cx="6680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But at different times the </a:t>
              </a: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may be adjacent to different part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of the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 /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9560" y="4776840"/>
              <a:ext cx="0" cy="87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"/>
          <p:cNvSpPr/>
          <p:nvPr/>
        </p:nvSpPr>
        <p:spPr>
          <a:xfrm>
            <a:off x="4600440" y="3967200"/>
            <a:ext cx="889200" cy="79992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3936960" y="3701880"/>
            <a:ext cx="743040" cy="333720"/>
          </a:xfrm>
          <a:custGeom>
            <a:avLst/>
            <a:gdLst/>
            <a:ahLst/>
            <a:rect l="l" t="t" r="r" b="b"/>
            <a:pathLst>
              <a:path w="468" h="210">
                <a:moveTo>
                  <a:pt x="0" y="93"/>
                </a:moveTo>
                <a:lnTo>
                  <a:pt x="172" y="0"/>
                </a:lnTo>
                <a:lnTo>
                  <a:pt x="320" y="6"/>
                </a:lnTo>
                <a:lnTo>
                  <a:pt x="468" y="105"/>
                </a:lnTo>
                <a:lnTo>
                  <a:pt x="394" y="210"/>
                </a:lnTo>
                <a:lnTo>
                  <a:pt x="289" y="130"/>
                </a:lnTo>
                <a:lnTo>
                  <a:pt x="203" y="136"/>
                </a:lnTo>
                <a:lnTo>
                  <a:pt x="86" y="179"/>
                </a:lnTo>
                <a:lnTo>
                  <a:pt x="0" y="9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37880" y="541440"/>
            <a:ext cx="8178840" cy="518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MEASURABLE VARIAB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level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capacit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mobility of the jaw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-pain threshold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psychosocial factors contributing to TM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/>
          <p:cNvSpPr/>
          <p:nvPr/>
        </p:nvSpPr>
        <p:spPr>
          <a:xfrm>
            <a:off x="3692520" y="3732120"/>
            <a:ext cx="488880" cy="693720"/>
          </a:xfrm>
          <a:custGeom>
            <a:avLst/>
            <a:gdLst/>
            <a:ahLst/>
            <a:rect l="l" t="t" r="r" b="b"/>
            <a:pathLst>
              <a:path w="308" h="437">
                <a:moveTo>
                  <a:pt x="0" y="381"/>
                </a:moveTo>
                <a:lnTo>
                  <a:pt x="148" y="80"/>
                </a:lnTo>
                <a:lnTo>
                  <a:pt x="246" y="0"/>
                </a:lnTo>
                <a:lnTo>
                  <a:pt x="308" y="86"/>
                </a:lnTo>
                <a:lnTo>
                  <a:pt x="203" y="215"/>
                </a:lnTo>
                <a:lnTo>
                  <a:pt x="92" y="437"/>
                </a:lnTo>
                <a:lnTo>
                  <a:pt x="0" y="3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"/>
          <p:cNvSpPr/>
          <p:nvPr/>
        </p:nvSpPr>
        <p:spPr>
          <a:xfrm>
            <a:off x="3537000" y="39765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"/>
          <p:cNvSpPr/>
          <p:nvPr/>
        </p:nvSpPr>
        <p:spPr>
          <a:xfrm>
            <a:off x="4044960" y="389736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310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313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30200" y="3751200"/>
            <a:ext cx="4210200" cy="2295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317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72280" y="3359160"/>
            <a:ext cx="4276800" cy="1806840"/>
            <a:chOff x="5372280" y="3359160"/>
            <a:chExt cx="4276800" cy="1806840"/>
          </a:xfrm>
        </p:grpSpPr>
        <p:sp>
          <p:nvSpPr>
            <p:cNvPr id="323" name=""/>
            <p:cNvSpPr/>
            <p:nvPr/>
          </p:nvSpPr>
          <p:spPr>
            <a:xfrm>
              <a:off x="5708520" y="4097160"/>
              <a:ext cx="394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vex curvatur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s to conca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884640" y="3359160"/>
              <a:ext cx="119160" cy="938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400600" y="3370320"/>
              <a:ext cx="273240" cy="87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72280" y="4014720"/>
              <a:ext cx="695160" cy="743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886440" y="2841480"/>
            <a:ext cx="45108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"/>
          <p:cNvSpPr/>
          <p:nvPr/>
        </p:nvSpPr>
        <p:spPr>
          <a:xfrm>
            <a:off x="8567640" y="2774880"/>
            <a:ext cx="214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"/>
          <p:cNvSpPr/>
          <p:nvPr/>
        </p:nvSpPr>
        <p:spPr>
          <a:xfrm>
            <a:off x="4336920" y="3809880"/>
            <a:ext cx="10256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87960" y="3203640"/>
            <a:ext cx="4461120" cy="1962360"/>
            <a:chOff x="5187960" y="3203640"/>
            <a:chExt cx="4461120" cy="1962360"/>
          </a:xfrm>
        </p:grpSpPr>
        <p:grpSp>
          <p:nvGrpSpPr>
            <p:cNvPr id="334" name=""/>
            <p:cNvGrpSpPr/>
            <p:nvPr/>
          </p:nvGrpSpPr>
          <p:grpSpPr>
            <a:xfrm>
              <a:off x="5708520" y="3203640"/>
              <a:ext cx="3940560" cy="1962360"/>
              <a:chOff x="5708520" y="3203640"/>
              <a:chExt cx="3940560" cy="19623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708520" y="3271320"/>
                <a:ext cx="3940560" cy="1894680"/>
                <a:chOff x="5708520" y="3271320"/>
                <a:chExt cx="3940560" cy="1894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708520" y="4097160"/>
                  <a:ext cx="39405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onvex curvatur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hanges to concav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6973920" y="3271320"/>
                  <a:ext cx="30240" cy="10256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flipH="1">
                <a:off x="8400600" y="3203640"/>
                <a:ext cx="303480" cy="104616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187960" y="4044960"/>
              <a:ext cx="879480" cy="71280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763600" y="2998800"/>
            <a:ext cx="2964960" cy="2616480"/>
            <a:chOff x="5763600" y="2998800"/>
            <a:chExt cx="2964960" cy="2616480"/>
          </a:xfrm>
        </p:grpSpPr>
        <p:sp>
          <p:nvSpPr>
            <p:cNvPr id="343" name=""/>
            <p:cNvSpPr/>
            <p:nvPr/>
          </p:nvSpPr>
          <p:spPr>
            <a:xfrm>
              <a:off x="5763600" y="4546440"/>
              <a:ext cx="2964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l maxima/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inim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183360" y="2998800"/>
              <a:ext cx="371520" cy="164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424640" y="3908520"/>
              <a:ext cx="2635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2998440"/>
            <a:ext cx="87480" cy="21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7688160" y="3908520"/>
            <a:ext cx="966960" cy="12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5319720" y="5173560"/>
            <a:ext cx="2133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(glenoid)foss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"/>
          <p:cNvSpPr/>
          <p:nvPr/>
        </p:nvSpPr>
        <p:spPr>
          <a:xfrm>
            <a:off x="8043840" y="520236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emine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280" y="10378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2480" y="2653920"/>
            <a:ext cx="8178840" cy="420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have studies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, as represented in images,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5693400" y="476244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6 major fiat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286240" y="4786200"/>
            <a:ext cx="157320" cy="157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5134680" y="4976640"/>
            <a:ext cx="41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589720" y="3400560"/>
            <a:ext cx="156960" cy="156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111640" y="497664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5081760" y="4976640"/>
            <a:ext cx="51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C and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350040" y="3146400"/>
            <a:ext cx="888840" cy="80028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18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21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599080" y="3692520"/>
            <a:ext cx="4210200" cy="2295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25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29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33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3546360" y="41241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259560" y="2624040"/>
            <a:ext cx="92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39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43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47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1374120" y="2506680"/>
            <a:ext cx="7439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52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044960" y="398304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57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61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1376640" y="2506680"/>
            <a:ext cx="498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66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71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74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68640" y="5715000"/>
            <a:ext cx="4210200" cy="1905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78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416480" y="4308480"/>
            <a:ext cx="3626280" cy="2384280"/>
            <a:chOff x="4416480" y="4308480"/>
            <a:chExt cx="3626280" cy="2384280"/>
          </a:xfrm>
        </p:grpSpPr>
        <p:grpSp>
          <p:nvGrpSpPr>
            <p:cNvPr id="482" name=""/>
            <p:cNvGrpSpPr/>
            <p:nvPr/>
          </p:nvGrpSpPr>
          <p:grpSpPr>
            <a:xfrm>
              <a:off x="4511880" y="4694040"/>
              <a:ext cx="3530880" cy="1068840"/>
              <a:chOff x="4511880" y="4694040"/>
              <a:chExt cx="3530880" cy="1068840"/>
            </a:xfrm>
          </p:grpSpPr>
          <p:sp>
            <p:nvSpPr>
              <p:cNvPr id="483" name=""/>
              <p:cNvSpPr/>
              <p:nvPr/>
            </p:nvSpPr>
            <p:spPr>
              <a:xfrm>
                <a:off x="5211720" y="4694040"/>
                <a:ext cx="28310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Middle axis o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the condyl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4511880" y="5011200"/>
                <a:ext cx="898560" cy="227160"/>
              </a:xfrm>
              <a:prstGeom prst="line">
                <a:avLst/>
              </a:prstGeom>
              <a:ln cap="rnd" w="255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416480" y="4308480"/>
              <a:ext cx="447840" cy="2384280"/>
              <a:chOff x="4416480" y="4308480"/>
              <a:chExt cx="447840" cy="2384280"/>
            </a:xfrm>
          </p:grpSpPr>
          <p:sp>
            <p:nvSpPr>
              <p:cNvPr id="486" name=""/>
              <p:cNvSpPr/>
              <p:nvPr/>
            </p:nvSpPr>
            <p:spPr>
              <a:xfrm>
                <a:off x="4416480" y="4308480"/>
                <a:ext cx="135000" cy="134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51480" y="5657760"/>
                <a:ext cx="312840" cy="10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4335120" y="3029040"/>
            <a:ext cx="3443400" cy="1270080"/>
            <a:chOff x="4335120" y="3029040"/>
            <a:chExt cx="3443400" cy="1270080"/>
          </a:xfrm>
        </p:grpSpPr>
        <p:sp>
          <p:nvSpPr>
            <p:cNvPr id="489" name=""/>
            <p:cNvSpPr/>
            <p:nvPr/>
          </p:nvSpPr>
          <p:spPr>
            <a:xfrm flipH="1" flipV="1">
              <a:off x="4335120" y="3029040"/>
              <a:ext cx="79560" cy="127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5200" y="3160800"/>
              <a:ext cx="316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Extension of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he middle axi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375080" y="3605400"/>
              <a:ext cx="489240" cy="208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2474640"/>
            <a:ext cx="817848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s with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-coord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such as the pre-coordination of certain relationships of entities in the TMJ with clinical syndrom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95960" y="3575160"/>
            <a:ext cx="447840" cy="2384280"/>
            <a:chOff x="6195960" y="3575160"/>
            <a:chExt cx="447840" cy="2384280"/>
          </a:xfrm>
        </p:grpSpPr>
        <p:sp>
          <p:nvSpPr>
            <p:cNvPr id="509" name=""/>
            <p:cNvSpPr/>
            <p:nvPr/>
          </p:nvSpPr>
          <p:spPr>
            <a:xfrm>
              <a:off x="6195960" y="3575160"/>
              <a:ext cx="13500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30960" y="4924440"/>
              <a:ext cx="31284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 flipV="1">
            <a:off x="6114600" y="2295360"/>
            <a:ext cx="79560" cy="127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218200" y="3828960"/>
            <a:ext cx="2170080" cy="1789200"/>
          </a:xfrm>
          <a:prstGeom prst="pie">
            <a:avLst/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29200" y="3282480"/>
            <a:ext cx="1544760" cy="222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2640" y="1974600"/>
            <a:ext cx="8178840" cy="175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ringing the various ordering relations together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533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536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539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77160" y="2666880"/>
            <a:ext cx="4256640" cy="3176640"/>
            <a:chOff x="677160" y="2666880"/>
            <a:chExt cx="4256640" cy="3176640"/>
          </a:xfrm>
        </p:grpSpPr>
        <p:sp>
          <p:nvSpPr>
            <p:cNvPr id="543" name=""/>
            <p:cNvSpPr/>
            <p:nvPr/>
          </p:nvSpPr>
          <p:spPr>
            <a:xfrm flipH="1">
              <a:off x="2521080" y="2666880"/>
              <a:ext cx="2412720" cy="149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77160" y="3908520"/>
              <a:ext cx="3446640" cy="1935000"/>
              <a:chOff x="677160" y="3908520"/>
              <a:chExt cx="3446640" cy="1935000"/>
            </a:xfrm>
          </p:grpSpPr>
          <p:sp>
            <p:nvSpPr>
              <p:cNvPr id="545" name=""/>
              <p:cNvSpPr/>
              <p:nvPr/>
            </p:nvSpPr>
            <p:spPr>
              <a:xfrm>
                <a:off x="758160" y="3908520"/>
                <a:ext cx="3365640" cy="193500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792800" y="425376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776680" y="4327560"/>
                <a:ext cx="0" cy="58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3920" y="4983840"/>
                <a:ext cx="624960" cy="96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256120" y="4311000"/>
                <a:ext cx="20772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3405960" y="4237560"/>
                <a:ext cx="12204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7160" y="518436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840" y="433584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46800" y="419400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13000" y="439920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39680" y="42577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64000" y="40921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66680" y="4492080"/>
                <a:ext cx="525960" cy="463320"/>
              </a:xfrm>
              <a:custGeom>
                <a:avLst/>
                <a:gdLst/>
                <a:ahLst/>
                <a:rect l="l" t="t" r="r" b="b"/>
                <a:pathLst>
                  <a:path w="560" h="504">
                    <a:moveTo>
                      <a:pt x="80" y="0"/>
                    </a:moveTo>
                    <a:lnTo>
                      <a:pt x="215" y="92"/>
                    </a:lnTo>
                    <a:lnTo>
                      <a:pt x="320" y="209"/>
                    </a:lnTo>
                    <a:lnTo>
                      <a:pt x="437" y="332"/>
                    </a:lnTo>
                    <a:lnTo>
                      <a:pt x="560" y="393"/>
                    </a:lnTo>
                    <a:lnTo>
                      <a:pt x="492" y="504"/>
                    </a:lnTo>
                    <a:lnTo>
                      <a:pt x="258" y="338"/>
                    </a:lnTo>
                    <a:lnTo>
                      <a:pt x="68" y="166"/>
                    </a:lnTo>
                    <a:lnTo>
                      <a:pt x="0" y="12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3123360" y="2678040"/>
            <a:ext cx="3777480" cy="4551480"/>
            <a:chOff x="3123360" y="2678040"/>
            <a:chExt cx="3777480" cy="4551480"/>
          </a:xfrm>
        </p:grpSpPr>
        <p:sp>
          <p:nvSpPr>
            <p:cNvPr id="559" name=""/>
            <p:cNvSpPr/>
            <p:nvPr/>
          </p:nvSpPr>
          <p:spPr>
            <a:xfrm>
              <a:off x="4924440" y="2678040"/>
              <a:ext cx="19080" cy="283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123360" y="5224320"/>
              <a:ext cx="3777480" cy="2005200"/>
              <a:chOff x="3123360" y="5224320"/>
              <a:chExt cx="3777480" cy="2005200"/>
            </a:xfrm>
          </p:grpSpPr>
          <p:sp>
            <p:nvSpPr>
              <p:cNvPr id="561" name=""/>
              <p:cNvSpPr/>
              <p:nvPr/>
            </p:nvSpPr>
            <p:spPr>
              <a:xfrm>
                <a:off x="3189600" y="5224320"/>
                <a:ext cx="3711240" cy="192564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330080" y="5567760"/>
                <a:ext cx="0" cy="14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15120" y="5641200"/>
                <a:ext cx="0" cy="58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95720" y="6294600"/>
                <a:ext cx="689040" cy="9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840920" y="5624640"/>
                <a:ext cx="22896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6108840" y="5551560"/>
                <a:ext cx="13428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3360" y="649404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88240" y="564948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12160" y="550872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26240" y="571176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7280" y="55699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02880" y="54079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83240" y="6198480"/>
                <a:ext cx="1416240" cy="1031040"/>
              </a:xfrm>
              <a:prstGeom prst="pi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247280" y="5883480"/>
                <a:ext cx="1008000" cy="1283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4924440" y="2666880"/>
            <a:ext cx="4208400" cy="3752640"/>
            <a:chOff x="4924440" y="2666880"/>
            <a:chExt cx="4208400" cy="3752640"/>
          </a:xfrm>
        </p:grpSpPr>
        <p:sp>
          <p:nvSpPr>
            <p:cNvPr id="576" name=""/>
            <p:cNvSpPr/>
            <p:nvPr/>
          </p:nvSpPr>
          <p:spPr>
            <a:xfrm>
              <a:off x="4924440" y="2666880"/>
              <a:ext cx="2451240" cy="168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443720" y="3762360"/>
              <a:ext cx="1689120" cy="2657160"/>
              <a:chOff x="7443720" y="3762360"/>
              <a:chExt cx="1689120" cy="26571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62800" y="4025880"/>
                <a:ext cx="1670040" cy="2384280"/>
              </a:xfrm>
              <a:custGeom>
                <a:avLst/>
                <a:gdLst/>
                <a:ahLst/>
                <a:rect l="l" t="t" r="r" b="b"/>
                <a:pathLst>
                  <a:path w="1052" h="1502">
                    <a:moveTo>
                      <a:pt x="209" y="1502"/>
                    </a:moveTo>
                    <a:cubicBezTo>
                      <a:pt x="209" y="1483"/>
                      <a:pt x="209" y="1464"/>
                      <a:pt x="209" y="1446"/>
                    </a:cubicBezTo>
                    <a:lnTo>
                      <a:pt x="111" y="1139"/>
                    </a:lnTo>
                    <a:lnTo>
                      <a:pt x="37" y="856"/>
                    </a:lnTo>
                    <a:lnTo>
                      <a:pt x="0" y="486"/>
                    </a:lnTo>
                    <a:lnTo>
                      <a:pt x="12" y="265"/>
                    </a:lnTo>
                    <a:lnTo>
                      <a:pt x="111" y="92"/>
                    </a:lnTo>
                    <a:lnTo>
                      <a:pt x="197" y="19"/>
                    </a:lnTo>
                    <a:lnTo>
                      <a:pt x="381" y="0"/>
                    </a:lnTo>
                    <a:lnTo>
                      <a:pt x="523" y="37"/>
                    </a:lnTo>
                    <a:lnTo>
                      <a:pt x="689" y="142"/>
                    </a:lnTo>
                    <a:lnTo>
                      <a:pt x="769" y="283"/>
                    </a:lnTo>
                    <a:lnTo>
                      <a:pt x="769" y="431"/>
                    </a:lnTo>
                    <a:lnTo>
                      <a:pt x="751" y="622"/>
                    </a:lnTo>
                    <a:lnTo>
                      <a:pt x="751" y="782"/>
                    </a:lnTo>
                    <a:lnTo>
                      <a:pt x="763" y="905"/>
                    </a:lnTo>
                    <a:lnTo>
                      <a:pt x="837" y="1102"/>
                    </a:lnTo>
                    <a:lnTo>
                      <a:pt x="941" y="1311"/>
                    </a:lnTo>
                    <a:lnTo>
                      <a:pt x="1052" y="1496"/>
                    </a:lnTo>
                    <a:lnTo>
                      <a:pt x="209" y="1502"/>
                    </a:lnTo>
                    <a:close/>
                  </a:path>
                </a:pathLst>
              </a:custGeom>
              <a:solidFill>
                <a:srgbClr val="ff00ff"/>
              </a:solidFill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8021520" y="4035240"/>
                <a:ext cx="447120" cy="2384280"/>
                <a:chOff x="8021520" y="4035240"/>
                <a:chExt cx="447120" cy="23842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8021520" y="4035240"/>
                  <a:ext cx="134640" cy="134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156160" y="5384520"/>
                  <a:ext cx="312480" cy="10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V="1">
                <a:off x="7443720" y="4737960"/>
                <a:ext cx="124128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02400" y="3762360"/>
                <a:ext cx="517680" cy="545760"/>
              </a:xfrm>
              <a:custGeom>
                <a:avLst/>
                <a:gdLst/>
                <a:ahLst/>
                <a:rect l="l" t="t" r="r" b="b"/>
                <a:pathLst>
                  <a:path w="326" h="344">
                    <a:moveTo>
                      <a:pt x="61" y="0"/>
                    </a:moveTo>
                    <a:lnTo>
                      <a:pt x="0" y="104"/>
                    </a:lnTo>
                    <a:lnTo>
                      <a:pt x="135" y="203"/>
                    </a:lnTo>
                    <a:lnTo>
                      <a:pt x="196" y="344"/>
                    </a:lnTo>
                    <a:lnTo>
                      <a:pt x="326" y="283"/>
                    </a:lnTo>
                    <a:lnTo>
                      <a:pt x="227" y="12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151e"/>
              </a:solidFill>
              <a:ln w="25560">
                <a:solidFill>
                  <a:srgbClr val="ff15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9270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inging together multiple ordering structu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frames of reference locates the position of the disc and condyle with respect to each other and to the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5332320" y="2525760"/>
            <a:ext cx="45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condy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ossa in region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15960" y="2743200"/>
            <a:ext cx="4173480" cy="22906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898640" y="315252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117960" y="32400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22440" y="4016520"/>
            <a:ext cx="7747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473200" y="3219480"/>
            <a:ext cx="2574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898800" y="3132000"/>
            <a:ext cx="15264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69160" y="42544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751680" y="3249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2018520" y="30812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599200" y="33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3246480" y="315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4142520" y="29624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2363760" y="3624120"/>
            <a:ext cx="644400" cy="55260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216080" y="3584520"/>
            <a:ext cx="1655640" cy="1602000"/>
            <a:chOff x="1216080" y="3584520"/>
            <a:chExt cx="1655640" cy="1602000"/>
          </a:xfrm>
        </p:grpSpPr>
        <p:sp>
          <p:nvSpPr>
            <p:cNvPr id="600" name=""/>
            <p:cNvSpPr/>
            <p:nvPr/>
          </p:nvSpPr>
          <p:spPr>
            <a:xfrm>
              <a:off x="1216080" y="3959280"/>
              <a:ext cx="1593720" cy="1227240"/>
            </a:xfrm>
            <a:prstGeom prst="pi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738440" y="3584520"/>
              <a:ext cx="1133280" cy="152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7120" y="4151160"/>
              <a:ext cx="850680" cy="65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088960" y="4175280"/>
            <a:ext cx="49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gions C and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5183280" y="5346720"/>
            <a:ext cx="48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adjacent to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and anterior 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ondy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7475400" cy="133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32040" y="3182400"/>
            <a:ext cx="8178480" cy="188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ow have a three dimensional combinatorial space of possible relationshi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ained in the domain of the TMJ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"/>
          <p:cNvSpPr/>
          <p:nvPr/>
        </p:nvSpPr>
        <p:spPr>
          <a:xfrm>
            <a:off x="4906080" y="2270160"/>
            <a:ext cx="52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teri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741760" y="2827440"/>
          <a:ext cx="6935760" cy="3684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  <a:gridCol w="992160"/>
                <a:gridCol w="990360"/>
                <a:gridCol w="990720"/>
                <a:gridCol w="99072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0120" y="824040"/>
            <a:ext cx="8178840" cy="1893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N EXAMPLE OF PRE-COORDIN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0480" y="3465360"/>
            <a:ext cx="6967440" cy="88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1000"/>
          </a:bodyPr>
          <a:p>
            <a:pPr lvl="2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one of arti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ation of the posterior band of the articular disc in relation to the head of the condyle in the closed position.  The posterior band should be between 11:30 and 12 o’clock. If it is anterior to that position it demonstrates the pathology; anterior disc displace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109520" y="353880"/>
            <a:ext cx="2998800" cy="26323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3355200" y="701820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50960" y="398520"/>
            <a:ext cx="3273480" cy="25066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345480" y="7018200"/>
            <a:ext cx="51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852480" y="401760"/>
            <a:ext cx="3630600" cy="2647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2739960" y="704052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head &amp;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61800" y="0"/>
            <a:ext cx="4313520" cy="2933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418120" y="7040520"/>
            <a:ext cx="69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nclusions/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02480" y="3013200"/>
            <a:ext cx="2802960" cy="2178000"/>
            <a:chOff x="6702480" y="3013200"/>
            <a:chExt cx="2802960" cy="2178000"/>
          </a:xfrm>
        </p:grpSpPr>
        <p:sp>
          <p:nvSpPr>
            <p:cNvPr id="647" name=""/>
            <p:cNvSpPr/>
            <p:nvPr/>
          </p:nvSpPr>
          <p:spPr>
            <a:xfrm>
              <a:off x="6702480" y="4179960"/>
              <a:ext cx="171000" cy="19368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49920" y="4997520"/>
              <a:ext cx="172440" cy="19368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67440" y="3013200"/>
              <a:ext cx="172440" cy="193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34120" y="3714840"/>
              <a:ext cx="172440" cy="19368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34080" y="3930840"/>
              <a:ext cx="171360" cy="19368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38840" y="2997360"/>
            <a:ext cx="2685960" cy="2064960"/>
            <a:chOff x="6738840" y="2997360"/>
            <a:chExt cx="2685960" cy="2064960"/>
          </a:xfrm>
        </p:grpSpPr>
        <p:sp>
          <p:nvSpPr>
            <p:cNvPr id="653" name=""/>
            <p:cNvSpPr/>
            <p:nvPr/>
          </p:nvSpPr>
          <p:spPr>
            <a:xfrm>
              <a:off x="6738840" y="3059280"/>
              <a:ext cx="1109520" cy="118260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822720" y="3848040"/>
              <a:ext cx="11620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81720" y="3778200"/>
              <a:ext cx="1128600" cy="19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22720" y="4344840"/>
              <a:ext cx="701640" cy="63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98960" y="4068360"/>
              <a:ext cx="1659240" cy="99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10360" y="2997360"/>
              <a:ext cx="1414440" cy="92052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0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63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7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70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73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1859040" y="2852640"/>
            <a:ext cx="2802960" cy="2193840"/>
            <a:chOff x="1859040" y="2852640"/>
            <a:chExt cx="2802960" cy="2193840"/>
          </a:xfrm>
        </p:grpSpPr>
        <p:grpSp>
          <p:nvGrpSpPr>
            <p:cNvPr id="676" name=""/>
            <p:cNvGrpSpPr/>
            <p:nvPr/>
          </p:nvGrpSpPr>
          <p:grpSpPr>
            <a:xfrm>
              <a:off x="1859040" y="2868480"/>
              <a:ext cx="2802960" cy="2178000"/>
              <a:chOff x="1859040" y="2868480"/>
              <a:chExt cx="2802960" cy="2178000"/>
            </a:xfrm>
          </p:grpSpPr>
          <p:sp>
            <p:nvSpPr>
              <p:cNvPr id="677" name=""/>
              <p:cNvSpPr/>
              <p:nvPr/>
            </p:nvSpPr>
            <p:spPr>
              <a:xfrm>
                <a:off x="1859040" y="4035240"/>
                <a:ext cx="17100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6480" y="4852800"/>
                <a:ext cx="17244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24000" y="2868480"/>
                <a:ext cx="172440" cy="19368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90680" y="3570120"/>
                <a:ext cx="17244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90640" y="378612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1895400" y="2852640"/>
              <a:ext cx="2685960" cy="2064960"/>
              <a:chOff x="1895400" y="2852640"/>
              <a:chExt cx="2685960" cy="2064960"/>
            </a:xfrm>
          </p:grpSpPr>
          <p:sp>
            <p:nvSpPr>
              <p:cNvPr id="683" name=""/>
              <p:cNvSpPr/>
              <p:nvPr/>
            </p:nvSpPr>
            <p:spPr>
              <a:xfrm>
                <a:off x="1895400" y="2914560"/>
                <a:ext cx="1109520" cy="118260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979280" y="3703320"/>
                <a:ext cx="1162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38280" y="3633480"/>
                <a:ext cx="1128600" cy="19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979280" y="42001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2855520" y="3923640"/>
                <a:ext cx="1659240" cy="99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66920" y="2852640"/>
                <a:ext cx="1414440" cy="92052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91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866960" y="2630520"/>
            <a:ext cx="2803320" cy="2405160"/>
            <a:chOff x="1866960" y="2630520"/>
            <a:chExt cx="2803320" cy="2405160"/>
          </a:xfrm>
        </p:grpSpPr>
        <p:grpSp>
          <p:nvGrpSpPr>
            <p:cNvPr id="694" name=""/>
            <p:cNvGrpSpPr/>
            <p:nvPr/>
          </p:nvGrpSpPr>
          <p:grpSpPr>
            <a:xfrm>
              <a:off x="1866960" y="2630520"/>
              <a:ext cx="2803320" cy="2405160"/>
              <a:chOff x="1866960" y="2630520"/>
              <a:chExt cx="2803320" cy="2405160"/>
            </a:xfrm>
          </p:grpSpPr>
          <p:sp>
            <p:nvSpPr>
              <p:cNvPr id="695" name=""/>
              <p:cNvSpPr/>
              <p:nvPr/>
            </p:nvSpPr>
            <p:spPr>
              <a:xfrm>
                <a:off x="1866960" y="4024440"/>
                <a:ext cx="17136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14760" y="4842000"/>
                <a:ext cx="17280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22560" y="3422520"/>
                <a:ext cx="17316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498920" y="377496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962000" y="2913120"/>
                <a:ext cx="182880" cy="115416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987560" y="3506760"/>
                <a:ext cx="995400" cy="56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87560" y="41893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63800" y="3913200"/>
                <a:ext cx="1658880" cy="99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73400" y="2741760"/>
                <a:ext cx="525600" cy="102060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04200" y="2630520"/>
                <a:ext cx="215424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|B|C|D|E|F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67000" y="3505320"/>
              <a:ext cx="120816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087720" y="3057120"/>
            <a:ext cx="3076560" cy="451800"/>
            <a:chOff x="3087720" y="3057120"/>
            <a:chExt cx="3076560" cy="451800"/>
          </a:xfrm>
        </p:grpSpPr>
        <p:sp>
          <p:nvSpPr>
            <p:cNvPr id="707" name=""/>
            <p:cNvSpPr/>
            <p:nvPr/>
          </p:nvSpPr>
          <p:spPr>
            <a:xfrm flipV="1">
              <a:off x="3087720" y="3057120"/>
              <a:ext cx="0" cy="32220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00520" y="311004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t-to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6400" y="3252960"/>
              <a:ext cx="1670040" cy="885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793960" y="3115800"/>
            <a:ext cx="2269800" cy="1917000"/>
            <a:chOff x="2793960" y="3115800"/>
            <a:chExt cx="2269800" cy="1917000"/>
          </a:xfrm>
        </p:grpSpPr>
        <p:sp>
          <p:nvSpPr>
            <p:cNvPr id="711" name=""/>
            <p:cNvSpPr/>
            <p:nvPr/>
          </p:nvSpPr>
          <p:spPr>
            <a:xfrm flipV="1">
              <a:off x="2793960" y="3115800"/>
              <a:ext cx="19080" cy="166068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20240" y="46339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intersec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52640" y="4357800"/>
              <a:ext cx="1025640" cy="527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8800" y="94896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resolve conflicts that arise out of pre-coordination in the face of deeply held belief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 necessary to determine if such pre-coordinations are vali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6880" y="141120"/>
            <a:ext cx="8178840" cy="63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MJ DYNAMICS: NORM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00240" y="1312920"/>
            <a:ext cx="723744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4560" y="3859200"/>
            <a:ext cx="4922640" cy="247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4240" y="6613560"/>
            <a:ext cx="509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3520" y="129960"/>
            <a:ext cx="8178840" cy="633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MJ DYNAMICS: NORMAL &amp; ABNORM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731960"/>
            <a:ext cx="7084800" cy="460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84800" y="679932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uis Goldberg</cp:lastModifiedBy>
  <cp:lastPrinted>2006-03-03T19:39:42Z</cp:lastPrinted>
  <dcterms:modified xsi:type="dcterms:W3CDTF">2006-03-25T21:48:15Z</dcterms:modified>
  <cp:revision>360</cp:revision>
  <dc:subject/>
  <dc:title>Ontology of joints and ontology of  joint imaging</dc:title>
</cp:coreProperties>
</file>